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0.wmf" ContentType="image/x-wmf"/>
  <Override PartName="/ppt/media/image7.jpeg" ContentType="image/jpeg"/>
  <Override PartName="/ppt/media/image11.wmf" ContentType="image/x-wmf"/>
  <Override PartName="/ppt/media/image6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BCA-EA03-48FB-BCAA-3CE12536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F79-9D2F-4053-8E27-AB4E5FDD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C4D-1E59-466C-9CDA-C4ACCE37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7827-48EE-4CB9-9667-0A63BD57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B3F-A7B8-4AF8-B986-B14E31E0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8D7-B891-4C6F-BF6A-99782513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792-6CB7-4F18-A0F8-6D01E589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64E-A3F6-4893-A927-D3D99307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E35-DEBB-4D06-847B-6A0A62AD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3C7-1BEB-4995-AD8F-FF75B9E5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9E5-4DC5-437F-8227-3FEDC51D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46C-CB85-4A0F-9027-50E71051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4436-78B0-415E-B411-F3DD37C74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B0FB-DCF7-4DDF-BBEE-1A2ADA5A928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600" spc="-1" strike="noStrike">
                <a:solidFill>
                  <a:srgbClr val="000000"/>
                </a:solidFill>
                <a:latin typeface="Georgia"/>
              </a:rPr>
              <a:t>Small multiples, or the science and art of combining graph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Nicholas J. Co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epartment of Geograp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urham University, 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logounidurham-new"/>
          <p:cNvPicPr/>
          <p:nvPr/>
        </p:nvPicPr>
        <p:blipFill>
          <a:blip r:embed="rId1"/>
          <a:stretch/>
        </p:blipFill>
        <p:spPr>
          <a:xfrm>
            <a:off x="6732720" y="6021360"/>
            <a:ext cx="1333440" cy="5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105-9D5C-4A44-ACC4-FB04227867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F71D-5E52-4F6E-99A9-C31939DD36C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eorgia"/>
              </a:rPr>
              <a:t>What are we doing here?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Georgia"/>
              </a:rPr>
              <a:t>The problem of time series graph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mparisons of time series are a rich and challenging area of statistical graph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widespread term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spaghetti plot 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ints immediately at the difficul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s always, we want to combine a grasp of general patterns with access to individual deta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ith this in mind, we look at some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 of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Grunfeld datase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329-5E7C-46F8-8DB9-06C9ED3B49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543800" cy="548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64E-A558-4604-86BE-359DE68926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CD2A-DD76-47CD-AF3D-6875651E760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A49-2BEE-4BE8-BF11-258F37C3E7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93DB-1681-48C1-94A7-5DC46BF662C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3F8-78D0-4E09-ACB0-2165678F29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3F7F-DB16-495B-8E78-B94DEFD0A4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Vertical and horizo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y default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stacks small graphs vertical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f several graphs are combined, it is typical to cut down on axis labels and rely on differences in shape to convey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orizontal stacking is also supported, which can be useful for archaeological or environmental problems focused on variations with depth or he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ere is an archaeological dataset as exam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977-5BE2-4698-A388-6D364D91FC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7675560" cy="56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431-04AF-41AD-8DAE-C77E20B88F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3A20-ECEB-49E1-9EF3-219F9EC64A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Nightingale’s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Florence Nightingale (1820–1910) is well remembered for her nursing in the Crimean war and (within statistical science) for use of quantitative argu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er most celebrated dataset is often reproduced using her polar diagram, but is easier to think about as time s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Zymotic (loosely, infectious) disease mortality dominates other kinds, so much so that a square root scale helps comparison. (A logarithmic scale over-transforms here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F68A-6157-4654-8969-06E10AA662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5600" y="189000"/>
            <a:ext cx="8888400" cy="590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721-D22B-4ABB-BABB-29F710EEE7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ource of im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ttp://understandinguncertainty.org/coxco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CA9-8A2C-4EE0-9E2B-4E5B931581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A9BD-73CB-4370-A1FB-3BBFEA88E7B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3BD-4250-4208-94C3-56E0947052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mall mult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ood graphics often exploit one simple design that is repeated for different parts of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Edward Tufte called this the use of small multi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ell-designed small multiples are inevitably comparative, deftly multivariate,  shrunken, high-density graphics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Edward Rolf Tufte (1942–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488-24E9-49CA-A37E-0B5D905E98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F073-C1BA-4581-9261-22E6D685E0B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039080" cy="5121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DC0-B417-4EBC-A8FF-AD7B4F03F4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0034-D8E2-4D44-953B-58911062A3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Would </a:t>
            </a: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 hel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display is useful to show relative shape, such as times of pea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e see that seasonality is only part of what is being se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harsh winter of 1854–5 coincided with some of the hardest battles of the war, but 1855–6 was quite diffe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ut, as often happens, no one graph dominate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thers 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03D-656F-4E23-824D-F1D772BF34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8629-7E27-44BC-B7EE-DDE1DAF152C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321-F7A2-4754-B430-CDB7A7E58C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Lucida Console"/>
              </a:rPr>
              <a:t>crossp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scatter plot is the workhorse of statistical graph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John McKinley Chambers (1941–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7D3-8B89-4944-8142-7DF56DED8F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cross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rosspl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s designed as a quick-and-easy way to combine scatter plo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basic syntax is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rossplot (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yvarlist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) (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xvarlist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and the idea is to plot every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y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yvarlis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against every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in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xvarlis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use of two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varlis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 gives greater flexibility than does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matrix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which produces every possible scatter plot for a single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varlis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D02-03DC-4F4C-9800-7A8F34A2B1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catter plot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catter plot matrices are great, but they can be excess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ir main feature is also a lim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variables mean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orgia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plots all at once, so 10 means 100, and so for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The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half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ption just controls which plots you see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8CB-F398-4080-BC39-128E7532D2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crossplot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rosspl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as developed in teaching, especially of regression, with the aim of encouraging focused comparis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riginally (1999)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ross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was called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pyx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p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meaning Cartesian product, but the name was ugly, cryptic and easily forgott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syntax had to be as simple a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870-F2F1-439E-B379-4B2878AB30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crossplot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ersions of a response variable versus a key predi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 response variable versus versions of a key predictor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Each output versus each inp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Principal components versus original vari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First, let us look at four versions of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mpg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ersus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weigh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the auto data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88F-9301-44B4-A972-AEF4E792A9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543800" cy="548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272-E5B0-4CC0-8371-1ED4F356BC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ext we look at an audiometric dataset used as a multivariate example in the Stata manua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re are 8 response variables, 4 for left ears and 4 for right ears. Here we just focus on the 16 plots  pairing left and r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other graph could be the 4 plots comparing left and right ears at the same frequency, the diagonal 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4F0-19FA-4AB8-9016-02CEC6A78B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in St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Stata, small multiples are supported for different subsets of the data with 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by()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 or 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over()</a:t>
            </a:r>
            <a:r>
              <a:rPr b="1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ptions of many graph comma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Users can emulate this in their own programs by writing wrapper programs that call t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woway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or 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ba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 and its sibl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therwise, specific machinery offers repetition of a design for different variables, such as the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matrix 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mmand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7D6-CBEE-4FB6-8F98-897467B727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137-EB21-4BCE-BFE0-0C8069D0E7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Console"/>
              </a:rPr>
              <a:t>crossplot </a:t>
            </a: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yntax for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rossplot (mpg rt_mpg ln_mpg rec_mpg) weight, combine(imargin(small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rossplot (lft*) (rght*), jitter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D4A-E105-4F7C-A0CC-B5F84E22E4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crossplo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yntax ext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y default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rosspl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s just calling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twoway scatter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followed by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graph comb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t follows that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recast()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is available to recast to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twoway l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twoway connected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rosspl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as an extra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equence()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option to label graphs to ease preparation of graphics for pap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e.g.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equence(a b c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105-E9E7-428D-89CA-E73DF9B7B2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GB" sz="3600" spc="-1" strike="noStrike">
                <a:solidFill>
                  <a:srgbClr val="000000"/>
                </a:solidFill>
                <a:latin typeface="Lucida Console"/>
              </a:rPr>
              <a:t>combinepl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greatest value of a picture is when it forces 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o notice what we never expected to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John Wilder Tukey (1915–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DE0-CDE6-4ECB-845F-AE594C567D5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combinepl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ombinepl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s a generalisation of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cross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more flexible and inevitably more complicated in synta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general problem of combining plots of similar kind reduces to a loop producing individual plots and a call to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comb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That is bound to be a challenge to beginning 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idea is to avoid that by encapsulating the predictable syntax within one comm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4AC-2752-4BE0-9D96-7935F4A348B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combineplot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e will look at a series of univariate examples followed by a series of bivariate exam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 great variety is possible, as we can loop over user-written graphics commands as well as official comma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C9A-0E11-4C26-B127-B95EF07835D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43800" cy="548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394-054E-4E1E-A397-6ECF9CAF694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543800" cy="548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347-6BF1-452A-9920-2BE1E1342C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44E-D311-48A1-89C1-579BF7BE50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543800" cy="548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B75-32E7-4D36-94F7-0CACB27F5A4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Users can always put together their own composite graphs by saving individual graphs and then combining them using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comb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is presentation offers further modest automation of the same design repeated for differen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7E2-F8D9-436B-9411-F62F2A075E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75B-6DBB-4FEA-A3BD-540EE11E410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A digression on </a:t>
            </a: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sepsc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last example u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epscatte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a program automating separation of data points on a scatter plot by a categorical var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repetition of the legend needs some kind of fix. In this and similar examples,  the legend could be deleted and explaining symbols left as a task for the text cap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F9F-B2DD-40C4-8966-321524DF80A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Console"/>
              </a:rPr>
              <a:t>sepscatter </a:t>
            </a: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and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catter plot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ombinepl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ith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epscatte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meets a felt need, scatter plot matrices with categorisation of data poi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ere is an example with “size” variables from the auto dataset. The diagonal scatter plots have meaning, yet are not conventional. But not every graph need be immediately publish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6C7-B3B0-4C08-A827-6E2CCFDA5BB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543800" cy="548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479-CE90-4F85-8C00-4BD55DCA556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67556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242-EEC0-4526-9318-22104679320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A digression on </a:t>
            </a: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aa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last example used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aapl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aapl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ustomises automatic annotation of scatter plots with fitted regressions with text for key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Originally, it was written following a request by my Ph.D. student Alona Armstr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561-BCB0-4EEA-8129-27FDAEFEB49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Back to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combine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ome examples of its syntax will make clearer how it works. First look at a univariate 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ombineplot mpg price weight headroom: graph box @y, over(rep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ere we have one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varlis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d the synta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@y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s a placeholder for the variable n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2721-B0D2-4D8B-8654-CD87E28D294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ext look at a bivariate 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ombineplot price (mpg weight length displacement): sepscatter @y @x, ytitle("Price (USD)") sep(foreig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ere we have two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varlis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d the syntax elements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@y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d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@x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re placeholders for the variable na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41A-CB46-4ADE-8813-0644F60809C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two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varlis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 may each contain a single variable and they may be ident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hen both are presented, the combination is the Cartesian product of the </a:t>
            </a:r>
            <a:r>
              <a:rPr b="0" i="1" lang="en-GB" sz="2400" spc="-1" strike="noStrike">
                <a:solidFill>
                  <a:srgbClr val="000000"/>
                </a:solidFill>
                <a:latin typeface="Lucida Console"/>
              </a:rPr>
              <a:t>varlis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aturally, you can reach through to control the options of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comb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as well  as those of the particular graph command u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330-D370-4D8C-9341-B71B64B8149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Quirk or qui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quirky syntax of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ombine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might cause some queasin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ome might recall the obsolete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comm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nfident users would (should) be happy to write their own loops, topped by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comb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and that is fine to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justification for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ombine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is just convenience: it can be quicker than writing your own scrip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317-E43C-43E0-B0C7-5312A213691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A1AB-9352-4FBC-8168-A6056EDC11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Original programs discussed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rossplo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ombinep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d with cameo r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a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psca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ll may be installed from SS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0CC-E1FD-4E87-9EE9-32B4CE280E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0" lang="en-GB" sz="3600" spc="-1" strike="noStrike">
                <a:solidFill>
                  <a:srgbClr val="000000"/>
                </a:solidFill>
                <a:latin typeface="Lucida Console"/>
              </a:rPr>
              <a:t>designpl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Real life is both complicated and shor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d we make no mockery of honest adhock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rving John Good (1916–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489-85E9-4A79-AB37-6D5AF6484EB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ere more than anywhere arbitrariness of names can b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f you have used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-Plus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much, you may have come across “design plot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ut as implemented there they do  not look much like the graphs you are going to see. Nor are they plots showing fitted results; nor do they imply experimental desig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o understand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we need to creep up on it step by ste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26A-A395-4439-A71E-227917A6F1E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543800" cy="548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AFF-8E5A-49CA-B2F6-D7B7E7D5864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34C-F1ED-44BF-94EF-231DE91157F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designplot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Minimal syntax specifies a response first, then one or more predict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predictors should in practice be categorical, meaning taking on only a small or moderate number of distinct levels (“factors”, if you lik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examples w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designplot mpg rep7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designplot mpg rep78 fore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58D-259D-4715-B464-859F8521976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defa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statistics shown are me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iven one, two, … predictors, the means are shown for all the data, each one-way breakdown, each two-way breakdown, 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uses a syntax of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way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being 0, 1, 2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d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s the default vehic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tatsby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underpins calc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essence, we can get a multiscale breakdo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practice, we might want to restrict what is show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54A-A43A-42DE-B4ED-14F732588B2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02E-667E-4E01-BDE6-73E16C45EF1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Restricting </a:t>
            </a: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re we restricted the scop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designplot mpg foreign rep78,  maxway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et us look at a different dataset. The response variable for these data on the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Titanic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is a binary variable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urvived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, so its mean is the fraction surviv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e restrict using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maxway(2)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299-70BD-4304-9CC3-763DD60F5CB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24000" y="295200"/>
            <a:ext cx="5192640" cy="656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9F8-84E4-4847-B601-42D446DF3D8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o we have 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overall m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ne-way breakdowns for three predic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cl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adul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m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wo-way breakdowns for combin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class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×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adul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class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×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male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adult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×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66D-7626-426A-968F-8FFF369AA7D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What’s in a name?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Lucida Console"/>
              </a:rPr>
              <a:t>roseplot </a:t>
            </a: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by any other nam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 minor theme here is that definite names are needed for programs, even if kinds of graphs do not have distinct agreed na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s in advertising, a good name attracts and keeps 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s in politics, a bad name can be fatal.</a:t>
            </a: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C17-B813-438F-A184-E6031EA2D9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is kind of graph is for detailed scrutiny, rather than delivering sh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Logically similar displays are often used for reporting opinion poll or electoral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8AD-CA69-417B-9F77-2670AD3F066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That reminds us o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structure echoes analysis of variance, used descriptivel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imilar ideas appear in ANOVA and other literature going back to J.W. Tukey in 197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t also echoes the little used official comm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meanby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y default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meanby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also shows me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(Medians are allowed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t allows one-way breakdowns on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694-6AA9-4C5D-B2EB-DE8E70069DA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43B-1A2A-4682-8AD4-835C8017C27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190-9543-40F3-92A6-9E8F7DF7BB1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grmean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these examples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meanby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shows different means distinctly, but that is not guarante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Using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d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as a default  within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ensures more readability, although that too has its lim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7FA-5A77-425B-AA5E-88D360E64BC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Console"/>
              </a:rPr>
              <a:t>designplot </a:t>
            </a: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can show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other 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You can show any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ummariz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resu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practice, you would only want to plot results sharing the same units of measurement (including none at all, as with skewness and kurtosi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5AC-A262-4207-81E5-95CA3BD3440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543800" cy="548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349-6D1E-41E7-89CF-8807676AFD7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More to s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lthough based on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d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by default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can be recast to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ba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hbar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lthough based on summarizing single variables, what could be simpler than putting different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 side-by-si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2FF-7A2C-485A-8BEE-F0D1BB2AE8F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51E-B0EC-4C95-9938-D5CADD9359E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s this just a reinvention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of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Lucida Console"/>
              </a:rPr>
              <a:t>graph dot</a:t>
            </a: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graph dot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d its siblings are restricted in offering only one-way or two-way  or three-way breakdowns given, respectively, one or two or three “factor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ives scope for saving results for separate graphing or tabul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458-8942-4B56-BDB5-6E076345B3A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purpose of visualization is insight, not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n Shneiderman (1947–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E44-A569-4AAB-9A08-7A9A08BEFF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3DF2-5280-4884-B24C-1810D26DF1C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 main players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rossplo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ombinep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esign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ll may be installed from SS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ur attraction to images as a source of understa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both primal and perva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tephen Jay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uld (1941–200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68E-E011-4043-A034-6B085C3761E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F71F-59FB-4191-96B3-E1458D57DE8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parklines</a:t>
            </a: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name “sparkline”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was suggested by Edward Tufte for intense text-like graphic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parklines are typically simple in design, sparing of space and rich in data, but they include several quite different kinds of graph otherw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most common kind shows several time series stacked vertical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is a Stata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97F-12E3-49D0-95BC-A6DFD27F0E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parklines have long been standard in  several fields, including physics and chemistry (spectros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y)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seismology, climatology, ecology, archaeology and physiology (notably encephalography and cardiography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ufte provided an memorable and evocative new name and an excellent provocative discu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Grunfeld data (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webuse grunfeld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) are a classic dataset in panel-based economics.  Ten companies were monitored for 1935–54.  They give us a simple sandp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9CC-94CD-4D9A-9817-ADE3F1E697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9:54:52Z</dcterms:created>
  <dc:creator>Irene Cox</dc:creator>
  <dc:description/>
  <dc:language>en-US</dc:language>
  <cp:lastModifiedBy>Irene Cox</cp:lastModifiedBy>
  <dcterms:modified xsi:type="dcterms:W3CDTF">2014-07-20T10:28:11Z</dcterms:modified>
  <cp:revision>15</cp:revision>
  <dc:subject/>
  <dc:title>Slide 1</dc:title>
</cp:coreProperties>
</file>